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555C-F62A-4385-960D-B03CF518F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BE3B-15BD-44CC-9410-458D15400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7B22-AA48-492B-BFCB-1D1229A48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55DD-2465-4811-B9DF-DD194A570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698C0-1CDB-40BE-8F64-0C7549752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1F06C-9127-45EE-A631-BAB460469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67C24-5406-4A51-BBA3-250EEC381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62A7D-832E-40B9-A9AD-53445C1B3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527DC-552F-4638-9429-712B9A721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1B9ED-860C-4632-B05B-D74E8E763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653C5-5778-4273-9015-896E27AE8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C48B-A253-49D4-829F-18940C12D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2D28E-7134-414F-B7B1-76369E53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B3F5F-BF8F-4499-B901-D03420E35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EEC3A-5706-4A5B-9E15-5D69FDE8D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EAD64-18B8-4295-AAFC-1A1124151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453F0-1171-4C72-9041-F7C9804A1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C0DC-9D86-46F7-B211-7E3839EF0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BFEA-2C65-49FE-9F24-C17F45571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F104-A634-4E05-AF5D-ED2DA483D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466A-9902-403E-9E1A-D6F6F2C56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CB44-C7D5-4A43-8CDB-2B8DA6211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EF2A-95C7-4777-8CD3-4E2758F8F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73A1-D3F6-43A4-8ED2-CE3B7C073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03FF2-AD8C-4D54-86AA-B6208FCA2EA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EF915-4BE5-495A-8B3A-8E93F89ABBA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Rovné příležitosti žen a muž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třeba přistupovat ke každému člověku stejným způsobem nehledě na rasu, sexuální orientaci, pohlaví, fyzický vzhled nebo další odlišnosti, patří </a:t>
            </a:r>
            <a:br>
              <a:rPr sz="1600"/>
            </a:b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současnosti mezi jednu z hlavních zásad života ve společnost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rincip rovných příležitostí znamená potírání diskriminace a předcházení diskriminaci na základě pohlaví, rasy, etnického původu, náboženského vyznání, víry, zdravotního postižení, věku či sexuální orient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erovnost na základě pohlaví lze identifikovat i v rámci jednotlivých sociálně ohrožených skupin, jedná se pak o kombinaci několika znevýhodňujících faktor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R</a:t>
            </a:r>
            <a:r>
              <a:rPr b="0" lang="en-GB" sz="1600" spc="-1" strike="noStrike">
                <a:solidFill>
                  <a:srgbClr val="143f7e"/>
                </a:solidFill>
                <a:latin typeface="Arial"/>
              </a:rPr>
              <a:t>ovné příležitosti pro muže a žen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= </a:t>
            </a:r>
            <a:r>
              <a:rPr b="0" lang="en-GB" sz="1600" spc="-1" strike="noStrike">
                <a:solidFill>
                  <a:srgbClr val="143f7e"/>
                </a:solidFill>
                <a:latin typeface="Arial"/>
              </a:rPr>
              <a:t>absenc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e</a:t>
            </a:r>
            <a:r>
              <a:rPr b="0" lang="en-GB" sz="1600" spc="-1" strike="noStrike">
                <a:solidFill>
                  <a:srgbClr val="143f7e"/>
                </a:solidFill>
                <a:latin typeface="Arial"/>
              </a:rPr>
              <a:t> překážek bránících občanům na základě jejich příslušnosti k pohlaví v účasti na ekonomice, politice a v sociální oblasti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Cílem politiky rovnosti žen a mužů je zajistit, aby ženy i muži měli stejná práva, povinnosti a příležitosti ve všech sférách živo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Formální rovnost (de jure) je pouze první krok k skutečné rovnosti (de facto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Rovné příležitosti žen a muž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43f7e"/>
                </a:solidFill>
                <a:latin typeface="Arial"/>
              </a:rPr>
              <a:t>Otázka rovnosti žen a mužů jako jeden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e základních cílů Evropského společenstv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1131c"/>
                </a:solidFill>
                <a:latin typeface="Arial"/>
              </a:rPr>
              <a:t>Římská smlouva (1957)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 obsahovala ustanovení zavádějící princip rovného odměňování pro ženy a muž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1131c"/>
                </a:solidFill>
                <a:latin typeface="Arial"/>
              </a:rPr>
              <a:t>Plán Komise pro dosažení rovného postavení žen a mužů 2006 - 2010 (Roadmap)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: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tejná ekonomická nezávislost pro ženy i muže; sladění soukromého a profesního života; stejné zastoupení žen a mužů </a:t>
            </a:r>
            <a:br>
              <a:rPr sz="1800"/>
            </a:b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v rozhodovacích procesech; odstraňování všech forem násilí založeného na pohlaví; odstraňování stereotypů o roli žen a mužů ve společnosti ; podpora rovného postavení žen a mužů v zahraniční a rozvojové politice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Rovné příležitosti žen a muž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Strategie EU pro rovnost žen a mužů 2010 – 2015: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výšit počet žen na trhu práce, a pomoci tak při dosahování cílové míry zaměstnanosti stanovené ve strategii Evropa 2020 (tj. 75 % celkově pro muže i ženy), zvýšit počet žen na vysokých pozicích, podpořit podnikání žen, zavést rovnost v odměňování (ženy vydělávají v průměru o zhruba 18 % méně než jejich mužští kolegové), spolupracovat se všemi členskými státy při potírání násilí na žená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0000"/>
                </a:solidFill>
                <a:latin typeface="Arial"/>
              </a:rPr>
              <a:t>Evropský pakt pro rovnost žen a mužů</a:t>
            </a: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: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řijat na zasedání Evropské rady </a:t>
            </a:r>
            <a:br>
              <a:rPr sz="1800"/>
            </a:b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v březnu 2006, deklaruje politickou vůli vrcholných představitelů členských států EU zajistit rovné postavení žen a mužů na trhu práce a potírání stereotypních předsudků o roli žen a mužů v zaměstnání,  zlepšení podmínek pro sladění pracovního a rodinného života žen a mužů a posílení hlediska rovnosti žen a mužů ve všech plánovacích a rozhodovacích procesech (gender mainstreaming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Rovné příležitosti žen a muž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Rovné příležitosti žen a mužů také tvoří významnou součást aktivit Evropského sociálního fondu.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vinnost dodržovat rovné příležitosti vyplývá pro Českou republiku z </a:t>
            </a: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nařízení Rady (ES) č. 1083 / 2006 / čl. 16 / Rovné příležitosti žen a mužů a zákaz diskriminace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: </a:t>
            </a:r>
            <a:r>
              <a:rPr b="0" i="1" lang="cs-CZ" sz="1800" spc="-1" strike="noStrike">
                <a:solidFill>
                  <a:srgbClr val="143f7e"/>
                </a:solidFill>
                <a:latin typeface="Arial"/>
              </a:rPr>
              <a:t>„Členské státy a Komise zajistí podporu rovnosti žen a mužů a začlenění hlediska rovnosti pohlaví během jednotlivých fází provádění pomoci z fondů. Členské státy a Komise přijmou vhodná opatření, aby v jednotlivých fázích provádění fondů, a zejména při přístupu k nim, nedocházelo k diskriminaci na základě pohlaví, rasy nebo etnického původu, náboženského vyznání nebo světového názoru, zdravotního postižení, věku nebo sexuální orientace.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Projekty Evropského sociálního fondu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by měly jít v tomto ohledu ostatním příkladem. Měly by prokázat, že dodržováním principů a zásad horizontálních témat nedochází pouze k plnění administrativních požadavků (spojených s využíváním finančních prostředků Evropského sociálního fondu), ale především k přínosnému a prospěšnému kroku pro všech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Rovné příležitosti žen a muž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naha ŘO, aby v rámci horizontálního tématu rovné příležitosti nedocházelo pouze k formálnímu naplně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lánované </a:t>
            </a: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změny při aplikaci horizontálního tématu rovné příležitosti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 rámci OP LZZ v příštím programovacím obdob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ilotní otestování plánovaných změn v rámci výzvy 8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vinná příloha výzvy </a:t>
            </a: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Zhodnocení rovnosti žen a mužů v projektových žádostech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– v budoucnu by měla být přímo součástí projektové žádosti </a:t>
            </a:r>
            <a:br>
              <a:rPr sz="1800"/>
            </a:b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 nahradit tak stávající otázky na záložce Horizontální téma rovné příležitosti v aplikaci Benefit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dpůrný dokument </a:t>
            </a: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Pokyny pro vyplnění přílohy Zhodnocení rovnosti žen </a:t>
            </a:r>
            <a:br>
              <a:rPr sz="1800"/>
            </a:b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a mužů v projektových žádostech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: návod a pomůcka, jak správně zapracovat hledisko rovnosti žen a mužů do žádosti o finanční podporu </a:t>
            </a:r>
            <a:br>
              <a:rPr sz="1800"/>
            </a:b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 v budoucnu přispět k posílení horizontálního tématu rovné příležitosti v celém OP LZZ. Naleznete zde vysvětlení, co by měly obsahovat odpovědi na jednotlivé otázky Zhodnocení rovnosti žen a mužů v projektových žádoste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8088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4407e"/>
                </a:solidFill>
                <a:latin typeface="Arial"/>
              </a:rPr>
              <a:t>Děkuji Vám za pozorno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Šeredová Purschová Adéla, PhDr. (MPSV)</cp:lastModifiedBy>
  <dcterms:modified xsi:type="dcterms:W3CDTF">2012-03-19T11:32:39Z</dcterms:modified>
  <cp:revision>576</cp:revision>
  <dc:subject/>
  <dc:title>Snímek 1</dc:title>
</cp:coreProperties>
</file>